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1FF-0DC9-4FA0-884B-25598B00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203-199D-4399-BB9A-4DD06C11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20-EBFA-4E53-8B9D-697F280F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648-9B10-4B2C-AF98-53DE515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2A70-A931-4C27-94D9-48242CFC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06C-1318-492E-B054-FB7FADF0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0216-E0A9-4A91-B8FE-757D375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F2E-CEB6-4D7C-99D1-1D62EF1F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D72-BCDD-4C9A-AC80-13ACA4D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C54-3465-4311-B60B-803CFF0E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130-4A1C-405B-AE9F-867579E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897-F18D-4D2B-9149-A813A53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AA2-4F8D-4E44-B315-D4AC1F6C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BAC4-2E45-40FC-897C-1B54F8C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9D3-7C4F-4D94-82ED-34984FD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509C-14D8-45E1-A02A-D72D5237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F043-7864-4537-95E8-C0C60C46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9F3-1017-44E2-857A-DC3FE1A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85A-BECC-4EA5-A456-B265FB4F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DE0-25E6-4667-AA5B-593ED427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E19-5A2A-4081-974A-398A64A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828-5813-475A-8D66-0C213CB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60D-DEE0-42D0-B314-EB1CD75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7AB-FE2D-432D-9A44-4F83D3E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D09-0882-4694-80E7-DC2EFE2B9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6DA-B8D3-4356-8DB3-20E8BBA29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0400" y="176040"/>
            <a:ext cx="5583240" cy="36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«УПРАВЛЕНИЕ ПРОЕКТ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9120" y="252216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 про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циплина находится в логической и содержательно-методической взаимосвязи с другими частями общеобразовательной программы и базируется на знаниях, полученных при изучении такой дисциплины как «Правоведение и правовые основы противодействия коррупци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 1 . Общая характеристика  сопровождения и управлен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ами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16426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изучения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ключается в усвоении  студентами основополагающего набора сведений в области управления проектами, овладение теорией и практикой управления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учения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ляются: усвоение студентами всего набора определений, понятий, категорий и показателей в сфере управления проектами; подготовка студентов к самостоятельному принятию решений, касающихся проектной деятельности, а также выработка у них практических навыков управления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 1 . Общая характеристика  сопровождения и управления прое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840" y="157140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я проек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я проек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е, субъекты и объекты юридического  сопровождения и управления проектам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ы, функции и принципы юридического  сопровождения и управления проекта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пы юридического сопровождения и управления  проек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ы юридического сопровождения и управлени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рист/юрисконсульт: понятие, профессиональная  этика, личность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и работы штатного ю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и работы юридической служ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Юридический а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, значение и объекты юридического аудита.  Виды юридического аудит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и принципы юридического ауд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ий аудит, осуществляемый штатным юристом/юридической службой: основания, условия, порядок  осуществления, периодичн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ческие аспекты построения договорной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пы юридического сопровождения и управления договорно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 2. Особенности сопровождения и управления отдельными видами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ое сопровождение и управление договорной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юридического сопровождения и управления договорной работой: общие по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и принципы юридического сопровождения и управления договорной рабо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проектами, связанными с подготовкой компании к участию в конкурсах и тор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проектами, связанными 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м государственных гра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ридическое сопровождение отдельных видо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 объектами интеллектуаль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юридического сопровождения и управления  старта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дическое сопровождение и управление проектами, связанными со строи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ое сопровождение и управление противодействием  корпоративному мошен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308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правореализаци-онной технологией следует понимать инструментарий правоприменительной и иной право - реализационной деятельности, используемый для оформления юридических решений - актов реализации права - с целью обеспечения эффективности правового регу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заключить, что правореализационная юридическая техника включает в себя два блочных подразделения: правоприменительную технику и иную правореализационную тех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12-18T07:39:10Z</dcterms:modified>
  <cp:revision>619</cp:revision>
  <dc:subject/>
  <dc:title>Diapositiva 1</dc:title>
</cp:coreProperties>
</file>